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BE98-64B4-4F34-9ACD-100864CB46A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9B41-3952-40F7-8C5D-28610AD4E9C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E0CB-D338-4DE8-9809-931D37C32EA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6657-1395-4F37-93B8-33E56AA492A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6962-7F31-449A-8764-B8CED306B8B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1032-3C4F-49CE-B282-FA18D55867E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28A0-5288-4F59-8017-F4C28554129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5ED5-C0E2-4478-A790-E175B1965E5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BE79-27E3-43EC-9722-67299F10118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8700-F27B-4684-8988-E843603E640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27F-053D-4D04-A670-B1D38F3D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547280" y="3964320"/>
            <a:ext cx="71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176-F811-4276-9F31-C2BEA772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05600" y="396432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139-E880-445D-850D-75207C1B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61080" y="160020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75240" y="160020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547280" y="396432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61080" y="396432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75240" y="396432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7E0-D21D-4730-8A2F-F427C54B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33F-8F6F-4000-89B3-941FA333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5C1-CE45-4141-AE44-1A1CFC36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0DB-C68D-44C0-83AA-3D40C737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5A1-3816-4F93-AC0C-26D23F41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195280" y="274320"/>
            <a:ext cx="64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768-2157-4E92-8D4B-77A567BC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EED-1D22-451A-B142-55150648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05600" y="396432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D1F-44ED-4C04-BB0E-6EE3FEEF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71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479-A354-4A1B-939A-A3FD208D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C18F-B14E-45D0-AAE9-20403808B8E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6" name="Rectangle 9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3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4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5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6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7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1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2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3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4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5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6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7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8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9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0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1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2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3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4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5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36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37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" name="Group 38"/>
          <p:cNvGrpSpPr/>
          <p:nvPr/>
        </p:nvGrpSpPr>
        <p:grpSpPr>
          <a:xfrm>
            <a:off x="523800" y="-100080"/>
            <a:ext cx="1815840" cy="1728720"/>
            <a:chOff x="523800" y="-100080"/>
            <a:chExt cx="1815840" cy="1728720"/>
          </a:xfrm>
        </p:grpSpPr>
        <p:sp>
          <p:nvSpPr>
            <p:cNvPr id="36" name="Rectangle 39"/>
            <p:cNvSpPr/>
            <p:nvPr/>
          </p:nvSpPr>
          <p:spPr>
            <a:xfrm>
              <a:off x="1410840" y="-100080"/>
              <a:ext cx="928800" cy="17287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40"/>
            <p:cNvGrpSpPr/>
            <p:nvPr/>
          </p:nvGrpSpPr>
          <p:grpSpPr>
            <a:xfrm>
              <a:off x="523800" y="50400"/>
              <a:ext cx="1483920" cy="1387440"/>
              <a:chOff x="523800" y="50400"/>
              <a:chExt cx="1483920" cy="1387440"/>
            </a:xfrm>
          </p:grpSpPr>
          <p:grpSp>
            <p:nvGrpSpPr>
              <p:cNvPr id="38" name="Group 41"/>
              <p:cNvGrpSpPr/>
              <p:nvPr/>
            </p:nvGrpSpPr>
            <p:grpSpPr>
              <a:xfrm>
                <a:off x="523800" y="50400"/>
                <a:ext cx="1483920" cy="1387440"/>
                <a:chOff x="523800" y="50400"/>
                <a:chExt cx="1483920" cy="1387440"/>
              </a:xfrm>
            </p:grpSpPr>
            <p:grpSp>
              <p:nvGrpSpPr>
                <p:cNvPr id="39" name="Group 42"/>
                <p:cNvGrpSpPr/>
                <p:nvPr/>
              </p:nvGrpSpPr>
              <p:grpSpPr>
                <a:xfrm>
                  <a:off x="523800" y="50400"/>
                  <a:ext cx="1483920" cy="1387440"/>
                  <a:chOff x="523800" y="50400"/>
                  <a:chExt cx="1483920" cy="1387440"/>
                </a:xfrm>
              </p:grpSpPr>
              <p:sp>
                <p:nvSpPr>
                  <p:cNvPr id="40" name="Rectangle 43"/>
                  <p:cNvSpPr/>
                  <p:nvPr/>
                </p:nvSpPr>
                <p:spPr>
                  <a:xfrm>
                    <a:off x="527760" y="1222200"/>
                    <a:ext cx="1474920" cy="215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be0e3"/>
                      </a:gs>
                      <a:gs pos="100000">
                        <a:srgbClr val="57686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Rectangle 44"/>
                  <p:cNvSpPr/>
                  <p:nvPr/>
                </p:nvSpPr>
                <p:spPr>
                  <a:xfrm>
                    <a:off x="527760" y="50400"/>
                    <a:ext cx="1474920" cy="215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76869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AutoShape 45"/>
                  <p:cNvSpPr/>
                  <p:nvPr/>
                </p:nvSpPr>
                <p:spPr>
                  <a:xfrm flipV="1" rot="5400000">
                    <a:off x="-21240" y="608400"/>
                    <a:ext cx="1345680" cy="255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576869"/>
                      </a:gs>
                      <a:gs pos="100000">
                        <a:srgbClr val="bbe0e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AutoShape 46"/>
                  <p:cNvSpPr/>
                  <p:nvPr/>
                </p:nvSpPr>
                <p:spPr>
                  <a:xfrm flipH="1" flipV="1" rot="16200000">
                    <a:off x="1207080" y="595440"/>
                    <a:ext cx="1345680" cy="255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bbe0e3"/>
                      </a:gs>
                      <a:gs pos="100000">
                        <a:srgbClr val="57686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" name="Rectangle 47"/>
                <p:cNvSpPr/>
                <p:nvPr/>
              </p:nvSpPr>
              <p:spPr>
                <a:xfrm>
                  <a:off x="665280" y="175680"/>
                  <a:ext cx="1203840" cy="113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76869"/>
                    </a:gs>
                    <a:gs pos="100000">
                      <a:srgbClr val="bbe0e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Oval 48"/>
                <p:cNvSpPr/>
                <p:nvPr/>
              </p:nvSpPr>
              <p:spPr>
                <a:xfrm>
                  <a:off x="734040" y="253080"/>
                  <a:ext cx="1061640" cy="9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Oval 49"/>
                <p:cNvSpPr/>
                <p:nvPr/>
              </p:nvSpPr>
              <p:spPr>
                <a:xfrm>
                  <a:off x="837360" y="345960"/>
                  <a:ext cx="855360" cy="79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6869"/>
                    </a:gs>
                    <a:gs pos="100000">
                      <a:srgbClr val="bbe0e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Oval 50"/>
                <p:cNvSpPr/>
                <p:nvPr/>
              </p:nvSpPr>
              <p:spPr>
                <a:xfrm>
                  <a:off x="928080" y="425880"/>
                  <a:ext cx="676440" cy="63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Group 51"/>
              <p:cNvGrpSpPr/>
              <p:nvPr/>
            </p:nvGrpSpPr>
            <p:grpSpPr>
              <a:xfrm>
                <a:off x="942120" y="482400"/>
                <a:ext cx="614520" cy="525960"/>
                <a:chOff x="942120" y="482400"/>
                <a:chExt cx="614520" cy="525960"/>
              </a:xfrm>
            </p:grpSpPr>
            <p:sp>
              <p:nvSpPr>
                <p:cNvPr id="49" name="Arc 52"/>
                <p:cNvSpPr/>
                <p:nvPr/>
              </p:nvSpPr>
              <p:spPr>
                <a:xfrm>
                  <a:off x="1249560" y="565920"/>
                  <a:ext cx="42120" cy="376920"/>
                </a:xfrm>
                <a:prstGeom prst="pi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Arc 53"/>
                <p:cNvSpPr/>
                <p:nvPr/>
              </p:nvSpPr>
              <p:spPr>
                <a:xfrm>
                  <a:off x="1209600" y="565920"/>
                  <a:ext cx="42120" cy="376920"/>
                </a:xfrm>
                <a:prstGeom prst="pie">
                  <a:avLst/>
                </a:prstGeom>
                <a:gradFill rotWithShape="0">
                  <a:gsLst>
                    <a:gs pos="0">
                      <a:srgbClr val="576869"/>
                    </a:gs>
                    <a:gs pos="100000">
                      <a:srgbClr val="bbe0e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AutoShape 54"/>
                <p:cNvSpPr/>
                <p:nvPr/>
              </p:nvSpPr>
              <p:spPr>
                <a:xfrm>
                  <a:off x="1167120" y="939240"/>
                  <a:ext cx="166680" cy="6912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576869"/>
                    </a:gs>
                    <a:gs pos="5000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5"/>
                <p:cNvSpPr/>
                <p:nvPr/>
              </p:nvSpPr>
              <p:spPr>
                <a:xfrm>
                  <a:off x="942120" y="641880"/>
                  <a:ext cx="305640" cy="300960"/>
                </a:xfrm>
                <a:prstGeom prst="pi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6"/>
                <p:cNvSpPr/>
                <p:nvPr/>
              </p:nvSpPr>
              <p:spPr>
                <a:xfrm>
                  <a:off x="1250640" y="641880"/>
                  <a:ext cx="306000" cy="300960"/>
                </a:xfrm>
                <a:prstGeom prst="pi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57"/>
                <p:cNvSpPr/>
                <p:nvPr/>
              </p:nvSpPr>
              <p:spPr>
                <a:xfrm>
                  <a:off x="1209600" y="482400"/>
                  <a:ext cx="79200" cy="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2160" bIns="2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635040" y="189000"/>
            <a:ext cx="1293840" cy="111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ENCES WITH THE XO IN G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68000" y="1557000"/>
            <a:ext cx="57596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770px-LaptopOLPC_a"/>
          <p:cNvPicPr/>
          <p:nvPr/>
        </p:nvPicPr>
        <p:blipFill>
          <a:blip r:embed="rId1"/>
          <a:stretch/>
        </p:blipFill>
        <p:spPr>
          <a:xfrm>
            <a:off x="2268360" y="1557360"/>
            <a:ext cx="54738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 of pre-assessment and post-assessment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 of pre-teachers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teacher assessment to be administered at the end of the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of 4 teachers in the following aspect of technology in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OL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s of the 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with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-base lear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applications on the 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the teacher and classroom dynamics as regards OL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 and maintenance of the 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ting up of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of cab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electrical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nking for network c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wireless network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and configuration of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ptop deplo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eness creation for parents/guar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 behind the pi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the parent and th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, maintenance  and security at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ng of signature sheet for parents to acknowledge receipt of the laptop by the 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PTOP DEPLO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buary,2008 (day of deployment) in K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 pupils were given laptops on the basis of one laptop per chi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laptops were given to the class teacher and the headmi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pils identify their laptop by the unique colours and serial numbers assign to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aptop registered to the server by mac-fil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PTOP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in Bonsaaso - four months after Kanda due to power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visit to the school to provide suppor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ng the XO in teaching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technic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 of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ing of network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of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connectivit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problems, et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ost/unavailability of  Internet conne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digitized content align with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for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thy  from some offic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 OF XO IN THE GHANAIAN CLASS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ime of children to touch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ays for self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veiling of hidden talent among pup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cy and numeracy skills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teacher abreast with new ways of teaching and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hours of learning for pupils, punctuality and decreased absentee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 effect on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period of training for teachers on integration of XO in teaching an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munity awareness on OLPC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ized content  or software should be given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 technical training for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zation of keyboard for Ghanaian l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BERS OF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people selected  from below-mention minist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TI- 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F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zanne Buchele – Fulbright-ASHESI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E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so far with beta version of the 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error (technical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laptop screen divided into tw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 mouse sensitivity problems as a result of over scrubb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eries running down in short inter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ENES FROM THE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DSCN1663"/>
          <p:cNvPicPr/>
          <p:nvPr/>
        </p:nvPicPr>
        <p:blipFill>
          <a:blip r:embed="rId1"/>
          <a:stretch/>
        </p:blipFill>
        <p:spPr>
          <a:xfrm>
            <a:off x="1763640" y="1628640"/>
            <a:ext cx="676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PILS ENVIOUS ABOUT THEIR FRIENDS USING 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DSCN1666"/>
          <p:cNvPicPr/>
          <p:nvPr/>
        </p:nvPicPr>
        <p:blipFill>
          <a:blip r:embed="rId1"/>
          <a:stretch/>
        </p:blipFill>
        <p:spPr>
          <a:xfrm>
            <a:off x="1547640" y="1700280"/>
            <a:ext cx="705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IES AND GENTLEMEN, THANKS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ENTATION OF IMPLEMENT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ve day country meeting of OLPC partner countries in Cambridge. Nov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ON OF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chools selected from tw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da Primary  in Accra ( pupils from poor h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saasso primary in Ashanti Region (very remote village  with un-motorable road, no social amen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S OF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top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gathering in schools and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Number of pupils in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SimSun"/>
              </a:rPr>
              <a:t>kanda (39), Bonsaaso (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Total schools enro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SimSun"/>
              </a:rPr>
              <a:t>Kanda(213 ) , Bonsaaso (250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Children with previous contact with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SimSun"/>
              </a:rPr>
              <a:t>Kanda ( 5), Bonsaaso (1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contact points within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Explained initiative to the loc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Infrastructure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ity and connectiv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 block and storage for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classroom furn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ecurity features that have to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 of projec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objectives of the pi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xpected outcomes of the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the five OLPC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general work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scope of the pilot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cost of the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da =GH¢5,0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onsaaso =GH¢10,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Cost of pilot funded by OLPC Inc. and Government of Gh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13:00:08Z</dcterms:created>
  <dc:creator>newuser</dc:creator>
  <dc:description/>
  <dc:language>en-US</dc:language>
  <cp:lastModifiedBy> </cp:lastModifiedBy>
  <dcterms:modified xsi:type="dcterms:W3CDTF">2008-12-16T21:29:46Z</dcterms:modified>
  <cp:revision>87</cp:revision>
  <dc:subject/>
  <dc:title>MANAGING LESSONS  Emmanuel K. Dadebo</dc:title>
</cp:coreProperties>
</file>